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971800" y="2057400"/>
            <a:ext cx="3733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4267080" y="1905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705720" y="1905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971800" y="1905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022640" y="1569960"/>
            <a:ext cx="46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461280" y="1646280"/>
            <a:ext cx="46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27360" y="1569960"/>
            <a:ext cx="53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03680" y="2332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083120" y="2332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84960" y="2332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1371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41960" y="1241280"/>
            <a:ext cx="64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3716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4245120"/>
            <a:ext cx="3733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4092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4092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092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098960" y="3757680"/>
            <a:ext cx="46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537240" y="3833640"/>
            <a:ext cx="46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03680" y="3757680"/>
            <a:ext cx="53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79640" y="45194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59080" y="45194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461280" y="45194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699160" y="3581280"/>
            <a:ext cx="64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65440" y="4800600"/>
            <a:ext cx="1152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 10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092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97520" y="45194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3733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rk Taeger</dc:creator>
  <dc:description/>
  <dc:language>en-US</dc:language>
  <cp:lastModifiedBy>Dirk Taeger</cp:lastModifiedBy>
  <cp:revision>0</cp:revision>
  <dc:subject/>
  <dc:title>Kein Folientitel</dc:title>
</cp:coreProperties>
</file>